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E2C0-D053-4505-80E1-37B07070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B05F-8631-4952-958B-945D3EAE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C16B-3B1A-40F0-87B7-24070338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FC87-7D4A-4824-8704-866A1D46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964E-3758-413B-BA17-0A55D2B9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D24E-C0DD-4D22-B907-7E085724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3D84-FF33-4806-9B59-3EA78F5B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B84D-3DDC-4F14-8390-FF912F32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DF99-40F1-4905-B88E-39094E0B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DAFC-5F6D-4BFB-BF61-67277D5E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5F75-DA5B-4E62-866F-FB86261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581A-7794-42B1-A0CC-66EAC090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8671-7EDE-46E2-9DC4-0948850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8D45-0877-44EC-BD97-41FACEA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AB98-4095-45BE-AE34-E8951587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7C38-D25F-4994-BD19-BCC82404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4343-289C-4B98-A917-11A69AD3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7DAD-28CB-4E1A-80DA-F7771EE9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5A5A-3DD4-484D-B4BD-F8408434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6E0A-E740-44A5-9421-B92E805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58A0-FC37-496B-B632-5FC5FBDD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2258-0F99-49D1-9BF4-8B7E47B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9ABE-1450-40B4-97C2-36E533F9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DA54-1074-4C85-95CC-AE2D7CD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EDA6-290E-4DC5-87E2-6A37F931BB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ECAA-EF51-45D9-9E67-F038CD2002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es.clemson.edu/~ahoover/stare/" TargetMode="External"/><Relationship Id="rId2" Type="http://schemas.openxmlformats.org/officeDocument/2006/relationships/hyperlink" Target="http://www.parl.clemson.edu/stare/nerve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es.clemson.edu/~ahoover/stare/" TargetMode="External"/><Relationship Id="rId2" Type="http://schemas.openxmlformats.org/officeDocument/2006/relationships/hyperlink" Target="http://www.parl.clemson.edu/stare/nerve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7696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Automatic Detection of Blood Vessels       </a:t>
            </a:r>
            <a:br>
              <a:rPr sz="3600"/>
            </a:b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     in Digital Retinal Image using </a:t>
            </a:r>
            <a:br>
              <a:rPr sz="3600"/>
            </a:b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                  CVIP Tool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rishna Praveena Mandav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ri Swetha Kantaman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bert Le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52280" y="1530360"/>
            <a:ext cx="883944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gion growing approach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sume that pixels are close to each other and have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milar intensity values and are likely to belong to sam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bj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rt region growth from a seed point, then segment the image based on some predefined criter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ve the Disadvantage  that the seed point should be selected manual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fferential-Geometry-based approach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s techniques developed from the complex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al field of Differential Geo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based on blood-vessel structural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attern recogni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52280" y="1066680"/>
            <a:ext cx="883944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tched-Filt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e signal processing approaches where new images with un-extracted vessels are convolved with known profiles of vesse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ched filters are followed by image processing operations  lik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resholding to get the final vessel contou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orphology Schem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pply structuring elements to images to effect  dilation and erosion are two main operation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e Top Hat and Watershed algorithm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6 Approaches to Blood Vessel Ex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28600" y="304920"/>
            <a:ext cx="8610480" cy="79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-Based Approaches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 Snakes algorithms, which are the primary types of algorithms used for vessel ext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“Snake” is an active (deformable) contour with a set of Control Points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ing the segments of the contour to each oth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a user interactive algorith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king-Based Approach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similar to pattern recognition approaches except they apply local, instead of global oper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ing the pixels orthogonal to the tracking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ificial intelligence-based approach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 knowledge of model vessel structures to determine vessel structures in the “unextracted” (unsegmented)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applications may use a general  blood vessel  model for extractio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80880" y="380880"/>
            <a:ext cx="853452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ural Network-Based approach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neural networks as a classification method. The system is trained using a set of images having blood vessel contours. The target image i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ed using the trained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cellaneous Tube-Like Object Detection Approach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ls with the extraction of tubular structures from ima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not designed for vessel ext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06668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7680" y="417600"/>
            <a:ext cx="83977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NAL BLOOD VESSEL EXTRACTION (SEGMEN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Image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and STARE databases are available for the publi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www.ces.clemson.edu/~ahoover/star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parl.clemson.edu/stare/nerv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orked on 50 fundus images from the STARE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he Images Were Ta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Optical camera is used to see through the pupil of the eye to the inner surf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eyeball. The resulting retinal image shows the optic nerve, fovea, and the blood vesse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06668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7680" y="417600"/>
            <a:ext cx="8397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Image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and STARE databases are available for the publi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www.ces.clemson.edu/~ahoover/star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parl.clemson.edu/stare/nerv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orked on 50 fundus images from the STARE datab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he Images Were Ta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Optical camera is used to see through the pupil of the eye to the inner surf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he eyeball. The resulting retinal image shows the optic nerve, fovea, and the blood vesse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dfdef6"/>
                </a:solidFill>
                <a:latin typeface="Times New Roman"/>
              </a:rPr>
              <a:t>Method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s used blood vessel extractio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on (segmen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1600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used Computer Vision and Image Processing Tools to apply various algorithms to extract (segment) blood vessels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184560" y="341280"/>
            <a:ext cx="43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ur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Preprocessing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rocessing will eliminate errors caused during taking the image and to reduce brightness effects on the imag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iginal images are resized from 150*130  to 256*256 to use in CVIP too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s in green bands show vessel structures most reliably. So, the green band was extra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Extraction of blood vessels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that we applie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n fil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placian fil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enhancement methods like Adaptive Contrast Enhancement, Histogram equ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 detection like Canny edge dete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Post processing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put images from blood vessel extraction were processed to get clearer contours of the vess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techniques were appl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pening by high pass spatial filte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othing by FFT smoothing, Ypmean fil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va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ic retinopathy – 4.1 million US Adul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 Interview Survey and US Census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ucoma – 2 million individuals in the 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hthalmologic images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structure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lood 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detect and treat Eye Diseases affecting blood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fdef6"/>
                </a:solidFill>
                <a:latin typeface="Times New Roman"/>
              </a:rPr>
              <a:t>Original Image and Expected Output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470400" cy="2941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3581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08760" y="380880"/>
            <a:ext cx="41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Our final images for different algorithms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2438640" cy="24386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2133720" y="38098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4876920" y="3809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1068840" y="3505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62520" y="34290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55240" y="3429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57760" y="6284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93120" y="62485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Summary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AND USE: Extraction of blood vesse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is ongoing and there is still a great need to develop for an easier, more accurate and useful algorith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able to detect major blood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algorithms can be developed using CVIP tools for the extraction of minor blood vess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Suggestions for Future Work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echniques for not only better detection of vessel edges, but for filling in the vessels so that they are more anatomically exacting regarding medical image standards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s only edges are detected they can be filled to get the blood vessel. Research should be done in filling the structures in our final outpu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better algorithms based advantages that may be given by the following vessel structural properties (as mentioned in a few papers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ssel size may decrease when moving away from the optic disc and the width of blood vessels may lie with in 2-10 pix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ssels are darker relative to the back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tensity profile varies from vessel to vessel by a small value. That profile is modeled as a Gaussian sha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6765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More Suggestions for Future Work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on of Minute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ed outputs can be verified by an ophthalmolog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traction outputs may also be calculated of sensitivity and specificity of blood vessels will give you better final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on of the optic disc is also needed as the border of the disc appears as a blood vessel. To prevent this the optic disc should be detected and removed before blood vessels are extra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vessels should be separated from hemorrhages, and micro aneurys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7238880" y="255600"/>
            <a:ext cx="16765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dfdef6"/>
                </a:solidFill>
                <a:latin typeface="Times New Roman"/>
              </a:rPr>
              <a:t>Conclusion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VIPtools is a very handy method for applying extraction techniques. There is a dire need for easier methods of blood vessel extraction. CVIPtools may provide  accurate automatic detection algorithms for clinical applications in retinopath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fdef6"/>
                </a:solidFill>
                <a:latin typeface="Times New Roman"/>
              </a:rPr>
              <a:t>Reference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r Imaging Digital Image Analysis and Process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      Dr. Scott E Umba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Image Proces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Rafael C .Gonzalez, Richard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.W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A Review of Vessel Extraction Techniques and Algorith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mil Kirbas and Francis Quek, Wright State University, Dayton, O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Automated Diagnosis and Image understanding with Object Extraction, Object Classification and Inferencing in Retinal Imag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eal Goldbaum, Saied Moezzi, Adam Taylor, Shankar Chatterjee, Edward Hunter and Ramesh Jain ,University of California ,U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Times New Roman"/>
              </a:rPr>
              <a:t>Reference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Characterization of the optic disc in retinal imagery using a probalistic approa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nneth W.Tobin, Edward Chaum, Priya Govindaswami, Thomas P.Karnowski, Omer Sezer, University of Tennessee, Knoxville, Tennes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Blood Vessel Segmentation in Retinal Ima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.Echevarria, T.Miller, J.O Me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An improved matched filter for blood vessel detection of digital retinal ima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hammed Al-Rawi, Munib Qutaishat, Mohammed Arrar, University of Jordon,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rd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 Towards vessel characterization in the vicinity of the optic disc in digital retinal images – H.F.Jelinek,C.Lucas, D.J.Cornforth, W.Huang and M.J.C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 Retinal vessel segmentation using the 2-D Morlet Wavelet and Supervised classifi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ao V.B.Soares, Jorge J.G. Leandro ,Robert M. Cesar-Jr., Herbert F. Jelinek and Micheal J.Cree, Senior Member IE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 Locating blood vessels in retinal  images by piece-wise threshold probing of a matched filter respon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m Hoover, Valentina Kouznetsova, Micheal Goldba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fdef6"/>
                </a:solidFill>
                <a:latin typeface="Times New Roman"/>
              </a:rPr>
              <a:t>Reference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 Automated identification of diabetic retinal exudates in digital color ima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Osareh, M Mirmehdi, B Thomas, R Markh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.Survey of Retinal Image Segmentation and Regist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 S. Mabrouk, Nahed H. Solouma and Yasser M.Kada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.Automated detection of  diabetic retinopathy on digital fundus ima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Sinthanayothin, J.F. Boyce, T.H. Williamson, H.L. Cook, E. Mensah, S. Lal and D. Us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.Segmentation of retinal blood vessels by combining the detection of centerlines and morphological reconstru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 Maria Mendonca, Aurelio Campilho members IE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ye Diseases Prevalence Research Group. The prevalence of diabetic retinopathy among adults in the united states. Archives of Ophthalmology, 122(4):552–563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. The Eye Diseases Prevalence Research Group. Prevalence of open-angle glaucoma among adults in the united states. Archives of Ophthalmology, 122(4):532–538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. Retinal Vessel Extraction Using Multiscale Matched Filters, Confidence and Edge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hal Sofka, and Charles V. Stew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048120" y="25909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Freestyle Script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fdef6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ed blood vessels indicate retinal dis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clots indicate diabetic retinopath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row blood vessels indicate Central Retinal Artery Occl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 of blood vessels in retinal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resence of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prevent vision loss by early de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he Need for the Study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tomated Blood Vessel Extraction algorithms can save time, patients’ vision  and medical cost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Effects of Diseases on Blood Vessel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18080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ge of Diseased Retina Due to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990720" y="2019240"/>
            <a:ext cx="4600440" cy="38862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715000" y="293364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 produces hemorrhages, exudates and micro aneurysms (dark red spo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240" y="1257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Central Retinal Artery Occlusion (CRAO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4764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09480" y="285768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019920" y="44956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in narrowing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Effects of Diseases on Blood Ves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3885840" y="4038480"/>
            <a:ext cx="19810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Branch Retinal Artery Occlusion (BRAO)</a:t>
            </a: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-533520" y="20955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143000" y="1917720"/>
            <a:ext cx="4952880" cy="44020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308640" y="3046320"/>
            <a:ext cx="253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here artery branch points are occluded or blo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Effects of Diseases on Blood Vess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6 Approaches to Blood Vessel Extractio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recogni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based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ing based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icial intelligence based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al network based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cellaneous tube-like object detection approa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28600" y="1054080"/>
            <a:ext cx="868680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attern recognition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ls with automatic detection or classification of objects or featur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ulti scale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ed on image resolution. Major vessels are extracted from low resolution images and minor vessels from high resolution imag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keleton based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essel centerlines are extracted and then connected to create a vessel tre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idge-Based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is specialized skeleton based approaches. Ridges are peak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fdef6"/>
                </a:solidFill>
                <a:latin typeface="Arial"/>
              </a:rPr>
              <a:t>6 Approaches to Blood Vessel Ex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anderr</cp:lastModifiedBy>
  <dcterms:modified xsi:type="dcterms:W3CDTF">2007-09-15T03:48:5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